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BF0-E952-4C4E-8099-F20DAC04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EEE-A8F5-483A-B873-3EFEBC6F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887-249C-41E6-9CA6-FAE949D8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2CF-CC19-4F64-B9A2-2C0F4C38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3F3-AF22-4DBD-9A8E-7A41E23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D15-8AF0-444E-BEF2-5AE709C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E3A-8C4C-4F05-AC60-895DFF7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C9E-57FC-436E-B278-481A1915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F0D-D6E4-4DFE-9412-79D8C26A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6FF-D2FA-4060-9B35-B7F4910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6A9-73C4-45B4-BABD-BC8951DA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ED3-62BD-4C70-9F5C-96EABE6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4C55-4BA8-4BB5-9AFC-891EC9F91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isorder Name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group member nam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set and Cour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ial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reative…what else would be good to know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 DSM wo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t means/exampl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 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 DSM crite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t means/exampl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process continues with Criter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04:45Z</dcterms:created>
  <dc:creator>SASD User</dc:creator>
  <dc:description/>
  <dc:language>en-US</dc:language>
  <cp:lastModifiedBy>John Hampton</cp:lastModifiedBy>
  <dcterms:modified xsi:type="dcterms:W3CDTF">2011-11-15T12:03:44Z</dcterms:modified>
  <cp:revision>3</cp:revision>
  <dc:subject/>
  <dc:title>(Disorder Name) </dc:title>
</cp:coreProperties>
</file>